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28.png" ContentType="image/png"/>
  <Override PartName="/ppt/media/image10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dt" idx="52"/>
          </p:nvPr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00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00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53"/>
          </p:nvPr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12DD9A-CD55-4FB2-BDEB-FA09AC4C25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DB74DF0F-1EFB-4A46-B504-CB057CC25A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32AC6123-C885-416B-90DC-0AE25E84AA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03832197-EADC-4C0C-AE43-9E24B6D0EF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236482DB-C3C7-4169-859D-4DA4809EA1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BA0A7FB6-2BDC-47B9-BF3C-89A996CCF7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4DA6AFF6-2F9F-4641-B8E4-20FD59E48A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1AC33F59-60ED-4D77-B354-833FE8B6FA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A199B84C-05FF-4DE9-B2D9-9AA1EC71BF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7"/>
          <p:cNvSpPr txBox="1"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1F5CC547-664E-4E2D-AD6F-302D01B9BB37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EDF88040-BA63-41DA-BE68-D8B0642D8F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F1C-1F55-40DF-B2B2-4C03FE99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015-9F06-42E9-ABF0-3F164FAF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FECB2-8DC5-461C-BA84-AA4CC51C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B2FBA-1D6B-4ED8-9CA0-1FB1DBE7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F49BB-4AA3-4667-A98F-068EB28C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43207-D27B-474E-9EA6-7F4A24B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8D437-3BB5-4522-8CBB-81FDAF3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BF846-5AFF-42ED-9A9A-C3D7BB6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0A15F-D465-40BD-AF24-25C4EA9C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01534-4536-4426-A0AA-48CB3BA0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CB236-2F99-4C3B-9295-65E4AAC0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D9D5D-BA25-46A9-8AC9-9D8E1465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244-B9BC-452E-B99E-6ED1735E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FDBED-628A-4781-B516-F40A73CE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257CA-7A76-4452-9E25-0E6C724A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09046-4A9D-4D34-B544-7264C0D4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AB900-2921-424B-B953-5DD7E269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6446F-2485-4EDC-9984-7C04A025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2B54D-DC98-4313-AEC5-771C5B3A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EFAD2-F987-431E-9AD7-6ACAB6F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ADB5B-24D1-4ABB-9D5C-4C5F3C82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A6F07-CBEE-428B-8F36-76FCD696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5DA7D-1FAD-4E58-A7F2-2422B63F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600-21FC-4E94-8C6C-7167E07C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F2381-054B-4D7F-B29F-350A9F27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D16ED-5A43-4D4B-9560-B1D6130D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3813E-FB34-4271-86B7-CC4A8C92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F0531-F2CE-4D1E-B925-9E406E36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BD732-DC95-45F9-942A-F82482A6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CF5C2-4A0F-42F6-A823-6C6AAE5C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26CCF-8DAC-4E3B-95A6-A199EFA5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AC8A6-F4C3-4C0C-B5E2-E058E6E9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DD64C-BDBC-4689-A24E-DFBEDF1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825E2-CCE3-4B6B-A544-D65D9760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B41C-BE76-4C7A-B354-968F591D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CCDC7-5038-49D3-9E1D-CE13D7EE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72FBB-2780-4F79-829E-1CF28BF5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22043-DB38-4A7F-9393-F0B104C0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3866B-5596-4243-A0C2-070F2732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92C40-2D33-4ECC-B625-488C487D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B3B5E-F9C2-4D5A-9E14-7B9E93DD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7167C-F1F4-40D4-99DE-13F946CE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28E26-46B9-41F4-A2B4-2E1AFE11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43F50-A14E-4EF0-BEB3-B4D2C3EA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72C54-4068-4380-BE09-E720BD8B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4700-097F-4DAA-95CD-72B09167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284B0-F994-4FBE-B9E8-6915B36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C6373-7E6C-4303-945B-7C9812A7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36E2B-17BA-46C7-B98B-34D6D732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6DD72-8295-4B0A-A0AC-8B86D173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2E0F7-B754-4D01-AC0E-A847F0D5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3D36F-BA6B-4F65-A4D2-0D16DDF6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A976D-527D-4F23-A88A-BF219B50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459A0-42D5-4A7A-BAD7-5EA0F568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B4064-26A7-4611-8254-5779FFC7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0E485-5775-4F5B-BE12-F4A55DE1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CFF8-BCAB-42CD-A5E2-DD351F35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A2829-1739-4256-8C33-2CFA0BC6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4C213-C1B8-439D-8BE1-95914020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E516F-4C0F-4DA0-957F-20B4ED0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A8F26-557E-4459-922C-5BD193B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1B03C-1976-4A3F-98B8-FC42F308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6397D-B4DB-4504-87F0-91520017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AE073-ACBC-4D31-A195-B4046618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ECB03-386B-45D1-91EE-3620210E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9C82C-321C-4DD3-920A-68B5B1D0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BCF3E-6EFB-4391-9730-B467C845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DA28-F1AA-4832-B827-11DF388B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22DE5-B6F3-48C5-B066-0ABEA810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02469-4334-4EB9-86F5-507D0AEE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C0D2D-7C33-43B8-8038-EC81B670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11C19-F9BB-4E61-AA0B-7A478A53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A69C6-899A-4305-88A5-38013BD6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75251-1A53-4876-86CA-61CA1836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C737E-C183-46C1-AE18-4C5C03F9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9775D-F052-4B59-A452-83EB7E82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A6E13-2ACF-431A-952B-853813FD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23A4F-4ECD-4740-A506-16CAB6DB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F4EA-6938-438B-9C26-35682B13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EEA39-6D3F-492B-974A-3656915B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15CDA-72B2-4ABC-AD50-444C5B10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361D1-421E-4D48-98B3-3B839EA4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3F052-EDB9-47D2-9A7B-4CABCB0D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A8644-E3D3-42C8-8669-D1ED2D20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A3F8B-443A-4090-955D-C58B48F3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302A1-0E8D-4DFB-83A5-C36BEBF3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0A938-658B-4A31-A407-AC5C3127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6F734-9FB2-4AE4-A926-4638B815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A5841-7477-4700-A0D3-58DBEF83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85A9-3086-43AD-A266-692E66DF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8FA0E-C107-4271-98DD-5294E560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3C4C4-B2CB-4F5C-B12B-65F4960C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3E3D0-5FEC-41D5-957C-5D848AED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7C200-C4B9-497C-8B45-0C17F40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F9F66-3867-49CD-A529-30ECA803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E0045-5C98-44A1-95E0-A6131DA2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4083A-6997-41E2-982C-CB690337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877A0-36FC-402A-9BA3-A475988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72CC2-88DC-491F-8F4B-ABCE16D7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F59D0-F8CE-44F3-B36F-35E2E8EE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8C6D-AF43-4A84-B36D-6CC06DBD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52E00-B1BC-4687-975A-150244E9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39990-C496-4D0B-AD18-96641F7F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F3C8E-762B-43F2-900E-37F0C57C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B1F4B-21ED-4DCB-AA9D-BF5CB2D5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D563CC-660E-464D-B5E4-C9BE540F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2B0C9-94DF-42FB-8CD5-B1002C65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E8E6D0-D275-4610-B5C0-0C7F9719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DBABB-1330-4DAA-9A72-949F3B95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F1D0D-E32F-4A15-9E24-E4D08DB5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C7871-837B-4220-B466-15271E2F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449-631C-4D27-8E8C-1858150F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E2F6-8FE8-4B40-84B3-C924531E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71C5D-3BAA-4B81-86B0-82A4E65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DAE86-B5D5-477D-B4C7-B4DCC262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770CE-C06B-4E9D-A6DC-2119C3BB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A804E3-B877-4BA1-A5AC-F178B5F9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F9A83-4E89-4662-A5C1-14E4D6B8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2A33-10C2-4CFE-9BF8-E5F8038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EE61-F43E-47C5-8A80-1F690EF7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565D-EC1D-4EC0-9E4C-C51DFD83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51CD-6045-4315-A689-BBBAD0E7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FEE9-7293-4323-BD05-C0A94003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F24F-56E2-4CF4-A4FD-836D7C5D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6D36-4616-4C6D-BB5C-0156BA1B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C8A1-E0DB-455D-9272-78C01E3A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D3D0-8B93-4C6D-B872-380AC24D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250-CE43-474D-8BEC-8A43C2EF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FF59-CBB6-4C9E-9D95-F46C7986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3C70F-EA87-486C-A822-BADAE1F8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11213-FD79-4AED-8EEA-8CEDE45D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00E2-31AB-4901-B826-F5E29349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7408-C36B-4DD7-8267-4A5304B7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EEBBA-FF42-4525-82F0-19B9576D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BF93-41E9-473E-9F30-F961CB80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9149F-2372-4119-B1C2-02B8D764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97DB-E4DD-4AFD-A39E-004EC083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9EDC-7B12-486C-8906-78C0DD07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A71-7823-4FA0-B0D0-666001AF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3E5D6-284D-4FC6-978B-34C9D585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BA90-BC4E-4DF8-B2A2-3717A019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CE3DF-21B7-4B2E-8679-AF404762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1558-98C7-4BBF-A0F1-D9DBD7FC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44E9D-F28B-4DC4-84EF-4905AA37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1A1F0-C3CA-482C-914D-D7A81760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8CF09-0778-4CB0-AE18-5C118414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23C6-E470-498D-A4C4-78FD1771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EDB3A-5AE1-4DA7-A0A6-460F69D5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D9B71-9A57-476A-A6DE-CA5DD06C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2D5-C285-4851-AE1A-68378F32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E46C8-0196-4B2E-8014-A3EE4BF9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97480-6517-4890-A756-515409A9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F6C21-58BD-4285-AC15-973D20F5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32936-078A-47F4-890B-EC55584A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9DCD9-41E7-4215-A083-27E844C6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4755C-876A-41B1-8A2F-7CA2B168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F714F-E6F6-4397-9071-F59DFDD9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06A4E-D2ED-4603-BF5F-B58F6944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21004-3B1A-425B-8210-68867B76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9A99F-1EE6-4843-8251-BD2199B0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BAC-C18A-46AD-80CA-345AD500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0ECDD-9DC6-4131-BB64-AB42C2FD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08BC6-97E8-4BD0-B6B4-84ACFD32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48C83-0F82-4B99-9743-32CBF9B8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3E225-F5A6-422C-9B56-44ADAD28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C3099-A526-4D58-8C4F-5315BB44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10CF7-3F54-4B76-87FB-03E3CA34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7B402-7C5A-466D-968B-E3CD7F58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8C423-F660-41ED-8A48-0D186B41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2FC39-7CC1-4DD2-A694-2326D66E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231C6-E40C-4032-96ED-F67F4561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BB1-DF43-451A-BE0F-FA0E285E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2B5FF-E80F-43C7-BE52-DAB13F45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A91A6-24C0-47C7-998C-627B16BE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9CCD1-86CC-465C-BB53-B9E08E76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F8153-F711-4306-A14E-0D231058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34CE6-0F27-424C-9E0F-FCE3ADAF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B6EE3-8DD7-4165-B8B6-33DF78C2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335AF-63FC-4149-83B0-4D8256FB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8D684-2252-4A9A-817C-64B22224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B0D02-6613-46CF-BEA4-7734773D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83FBB-3A9F-46B7-98A3-A9C60972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395-01FD-43DB-95F2-EC9C19DB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5B8B2-0E0C-4142-B762-86536D47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BBC76-4654-4332-BC86-8B28CA4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DDDDE-3E6C-46E2-BEAD-A401326B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4625D-0B0B-40BE-B276-4D949320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E7A79-1A11-42EF-B2A5-52F74B44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A67AB-99F8-4CFD-8E19-8CC27F78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4A89D-A5D0-413C-932E-F2F3D242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D5269-44D4-4690-A590-CD3398A1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EE453-487C-452B-B54F-F4E59669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FE7B1-85E3-42D7-A61A-3FC2640C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2C7-EB86-4B17-AFE3-B074983E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70ABD-3DA2-4628-9FD7-768D940A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5CD15-3701-4368-8D10-7E21AAD4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CA3CA-4950-4AA0-8C7D-90050C4A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66198-99EA-48EA-A0DC-CC4D6EB7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B5567-32BD-4154-A63D-12A628AE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CDB0F-8B59-44E4-899B-8FA529E0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BADD5-C8CC-42D4-AF6A-88D3D593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D8695-56FB-4D95-85D3-C5B0CB52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374DB-D229-4F7B-93EB-90AB2AE1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53E32-E6B0-4C31-AC8B-FABF52D5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cambiar el estilo de título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9BDFBE-EA88-4B62-B52B-6964D01251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body"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 type="sldNum" idx="30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E24CD5-7795-4A48-BA3A-C2FF9F5387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noFill/>
          </a:ln>
        </p:spPr>
        <p:txBody>
          <a:bodyPr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258B0D-DD1F-4B9D-B4F1-3AE6324236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400" cy="585144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25560">
            <a:noFill/>
          </a:ln>
        </p:spPr>
        <p:txBody>
          <a:bodyPr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26C55B-87CB-4106-AADD-6624D85167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title"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8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9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884C51-D4C1-4679-97B7-91666DF5AD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41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42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FC65EE-618F-4134-8FBB-2AE0138A49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title"/>
          </p:nvPr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title"/>
          </p:nvPr>
        </p:nvSpPr>
        <p:spPr>
          <a:xfrm>
            <a:off x="4648320" y="3938760"/>
            <a:ext cx="4038480" cy="21877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dt" idx="43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ftr" idx="44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 type="sldNum" idx="45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66B5C6-60FC-4F37-B0F4-ECD149587C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title"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dt" idx="46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47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48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10B0BC-FDBA-488D-8651-B9A0DD2766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49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50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A5443B-75CC-4605-9BB7-D7245B7104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036DC8-EEF8-4ACC-9F6B-52B85008B2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6AB483-7172-4D78-9A79-F92501AFCA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000" spc="-1" strike="noStrike" cap="all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rmAutofit/>
          </a:bodyPr>
          <a:p>
            <a:pPr marL="432000" indent="-324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6C07C8-37C1-417D-B75D-C9CD7FD01F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»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title"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»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806938-6861-4B0B-A0EE-AB64A17C91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rmAutofit fontScale="74000"/>
          </a:bodyPr>
          <a:p>
            <a:pPr marL="3196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»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100000"/>
              </a:lnSpc>
              <a:spcBef>
                <a:spcPts val="601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title"/>
          </p:nvPr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»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8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1410C-1933-4C9E-BC85-F1734DBC3C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5AECBA-0DBD-4153-BE81-75B4E1D5AF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05BD7D-0BDA-4FD6-839F-5998D57EED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4B953D-0134-4CCF-B5F8-BA3BBE0B01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0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0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846920" cy="4176720"/>
          </a:xfrm>
          <a:prstGeom prst="rect">
            <a:avLst/>
          </a:prstGeom>
          <a:solidFill>
            <a:srgbClr val="bbe0e3"/>
          </a:solidFill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TEMA 6. LA REPRODUCCION Y LA NUTRICIÓN CEL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3 CuadroTexto"/>
          <p:cNvSpPr txBox="1"/>
          <p:nvPr/>
        </p:nvSpPr>
        <p:spPr>
          <a:xfrm>
            <a:off x="179640" y="188640"/>
            <a:ext cx="878508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4.2 MITOSIS: ETAPAS 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finición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división celular por el cual a partir de una célula madre se obtienen 2 células hijas con el mismo número y tipo de cromos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inalidad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tener células hijas con idéntica información genética que la célula mad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ultado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partir de una célula diploide (2n) se obtengan dos células diploides o que a partir de una haploide (n) se obtengan dos haplo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mportancia biológica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odos los organismos vivos utilizan la división celular, bien como mecanismo de reproducción, o como mecanismo de crecimiento del individ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 Los seres unicelulares: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ara la reproducción y perpetuación de la especie, manteniendo el número cromosómico y la identidad genética de la especie.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Reproducción asexu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 En organismos pluricelulares: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ara el crecimiento y desarrollo, sustitución de células muertas, regeneración de partes perdidas o destruidas y producir nuevas células germinales para la re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1 CuadroTexto"/>
          <p:cNvSpPr txBox="1"/>
          <p:nvPr/>
        </p:nvSpPr>
        <p:spPr>
          <a:xfrm>
            <a:off x="467640" y="908640"/>
            <a:ext cx="8137080" cy="541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MITOSIS O CARIOC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ndensación cromosomas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cilita el repa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rma huso mitótico o acromático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el movimiento de los cromosomas. Hay dos tipos de microtúbulos: polares (van de un polo al otro del huso) y cinetocóricos ( van del cinetocoro a un polo del hus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En células animal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ay una mitosis astral (hay centriolos y material pericentriolar que organizan el hus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En células vegetal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ay una mitosis anastral ( no hay centriolos y el centro organizador de microtúbulos es una zona del citoplasma llamada cl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TA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86800" cy="47628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0"/>
            <a:ext cx="2699640" cy="68580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ienza al hacerse visibles los cromosomas. Acontecimie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orma de huso mitótico. Migración de los centrosomas hacia los polos. Se forman las fibras polares, en vegetales se forma a partir de la zona cl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densación de cromosomas. Formación de cinetocoros y filamentos cinetocó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saparece la membrana nuclear y el nucleo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5" descr="mitosis2"/>
          <p:cNvPicPr/>
          <p:nvPr/>
        </p:nvPicPr>
        <p:blipFill>
          <a:blip r:embed="rId1"/>
          <a:stretch/>
        </p:blipFill>
        <p:spPr>
          <a:xfrm>
            <a:off x="2700360" y="692280"/>
            <a:ext cx="6443640" cy="583236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859880" cy="34596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ETA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2771640" cy="60930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ximo grado de condensación de los cromos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ción completa de huso acrom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romosomas en plano ecuatorial empujados por microtúbulos cinetocó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ntrómeros perpendiculares a los centrí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cariotip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5" descr="metafase_bis"/>
          <p:cNvPicPr/>
          <p:nvPr/>
        </p:nvPicPr>
        <p:blipFill>
          <a:blip r:embed="rId1"/>
          <a:stretch/>
        </p:blipFill>
        <p:spPr>
          <a:xfrm>
            <a:off x="2916360" y="765000"/>
            <a:ext cx="5977080" cy="575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851520" cy="54936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NA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2916360" cy="61657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romátidas se sepa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 arrastradas por los microtúbulos cinetocóricos, que se acor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alargan los microtúbulos polares, separando más los centrosomas hacia los p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rmina cuando llegan las cromátidas a los p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anafase_bis"/>
          <p:cNvPicPr/>
          <p:nvPr/>
        </p:nvPicPr>
        <p:blipFill>
          <a:blip r:embed="rId1"/>
          <a:stretch/>
        </p:blipFill>
        <p:spPr>
          <a:xfrm>
            <a:off x="2916360" y="692280"/>
            <a:ext cx="6048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ELO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00320" cy="21585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como una profase in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cromosomas se desconden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parecen los nucle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aparecen los microtúbu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parecen las membranas nucle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telofase_bis"/>
          <p:cNvPicPr/>
          <p:nvPr/>
        </p:nvPicPr>
        <p:blipFill>
          <a:blip r:embed="rId1"/>
          <a:stretch/>
        </p:blipFill>
        <p:spPr>
          <a:xfrm>
            <a:off x="1823040" y="202932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5" descr="telophase1_b_meiosis"/>
          <p:cNvPicPr/>
          <p:nvPr/>
        </p:nvPicPr>
        <p:blipFill>
          <a:blip r:embed="rId2"/>
          <a:stretch/>
        </p:blipFill>
        <p:spPr>
          <a:xfrm>
            <a:off x="3188520" y="2029320"/>
            <a:ext cx="1300320" cy="130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7"/>
          <p:cNvPicPr/>
          <p:nvPr/>
        </p:nvPicPr>
        <p:blipFill>
          <a:blip r:embed="rId1"/>
          <a:stretch/>
        </p:blipFill>
        <p:spPr>
          <a:xfrm>
            <a:off x="4427640" y="620640"/>
            <a:ext cx="4248000" cy="5562720"/>
          </a:xfrm>
          <a:prstGeom prst="rect">
            <a:avLst/>
          </a:prstGeom>
          <a:ln w="25560">
            <a:noFill/>
          </a:ln>
        </p:spPr>
      </p:pic>
      <p:pic>
        <p:nvPicPr>
          <p:cNvPr id="750" name="Picture 3" descr="7"/>
          <p:cNvPicPr/>
          <p:nvPr/>
        </p:nvPicPr>
        <p:blipFill>
          <a:blip r:embed="rId2"/>
          <a:stretch/>
        </p:blipFill>
        <p:spPr>
          <a:xfrm>
            <a:off x="900000" y="765000"/>
            <a:ext cx="3067200" cy="5362560"/>
          </a:xfrm>
          <a:prstGeom prst="rect">
            <a:avLst/>
          </a:prstGeom>
          <a:ln w="25560">
            <a:noFill/>
          </a:ln>
        </p:spPr>
      </p:pic>
      <p:sp>
        <p:nvSpPr>
          <p:cNvPr id="751" name="Text Box 4"/>
          <p:cNvSpPr txBox="1"/>
          <p:nvPr/>
        </p:nvSpPr>
        <p:spPr>
          <a:xfrm>
            <a:off x="1692360" y="189000"/>
            <a:ext cx="5904000" cy="519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ASES DE LA 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7664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4.3 CITOCI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8435160" cy="63093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enza en anafase y consiste en el reparto de los componentes que se han duplicado en interfase en las dos células h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la separación de citoplasmas para dar las dos células h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erente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élulas anima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or estrangu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illo contráctil en placa ecuatorial: actina y mios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orma surco de seg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élulas vegeta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formación placa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A. Golgi forma vesículas (polisacáridos), van a la zona ecua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usionan y dan lugar a una estructura, placa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extremos placa crecen, se fusionan con la membrana plasmática, separación de las dos células hi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capa de polisacáridos (lámina media), después cada célula depositará celulosa entre la lámina media y m. 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http://www.geocities.ws/batxillerat_biologia/ciclec3.jpg"/>
          <p:cNvPicPr/>
          <p:nvPr/>
        </p:nvPicPr>
        <p:blipFill>
          <a:blip r:embed="rId1"/>
          <a:stretch/>
        </p:blipFill>
        <p:spPr>
          <a:xfrm>
            <a:off x="251640" y="260640"/>
            <a:ext cx="8641080" cy="3528360"/>
          </a:xfrm>
          <a:prstGeom prst="rect">
            <a:avLst/>
          </a:prstGeom>
          <a:ln w="25560">
            <a:noFill/>
          </a:ln>
        </p:spPr>
      </p:pic>
      <p:pic>
        <p:nvPicPr>
          <p:cNvPr id="755" name="Picture 4" descr="http://biogeo.iespedrojimenezmontoya.es/BIOLOGIAJM/CICLO%20CELULAR/IMAGENES/CITVEG.JPG"/>
          <p:cNvPicPr/>
          <p:nvPr/>
        </p:nvPicPr>
        <p:blipFill>
          <a:blip r:embed="rId2"/>
          <a:stretch/>
        </p:blipFill>
        <p:spPr>
          <a:xfrm>
            <a:off x="0" y="3789000"/>
            <a:ext cx="8953560" cy="3069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6800"/>
          </a:xfrm>
          <a:prstGeom prst="rect">
            <a:avLst/>
          </a:prstGeom>
          <a:solidFill>
            <a:srgbClr val="ffffff"/>
          </a:solidFill>
          <a:ln w="25560">
            <a:noFill/>
          </a:ln>
        </p:spPr>
        <p:txBody>
          <a:bodyPr anchor="t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4.4 LA MEIOSIS: ETAPAS E IMPORTANCIA B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solidFill>
            <a:srgbClr val="bbe0e3"/>
          </a:solidFill>
          <a:ln w="25560">
            <a:noFill/>
          </a:ln>
        </p:spPr>
        <p:txBody>
          <a:bodyPr anchor="t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4. FUNCIÓN DE REP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 txBox="1"/>
          <p:nvPr/>
        </p:nvSpPr>
        <p:spPr>
          <a:xfrm>
            <a:off x="179280" y="0"/>
            <a:ext cx="4032360" cy="689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finición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 un proceso divisional celular, en el cuál una célula diploide (2n), experimentará dos divisiones celulares sucesivas, con la capacidad de generar cuatro células haploides (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Consist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 dos divisione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ecu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"/>
              <a:buChar char="-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erfase premeiótica: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"/>
              <a:buChar char="-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iosis I (Reduccion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"/>
              <a:buChar char="-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erfase meiótica: corta y sin duplicación del A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"/>
              <a:buChar char="-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iosis II (Como una mitosis normal pero con la mitad de cromosomas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3" descr="meiosis-big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 txBox="1"/>
          <p:nvPr/>
        </p:nvSpPr>
        <p:spPr>
          <a:xfrm>
            <a:off x="250920" y="189000"/>
            <a:ext cx="8497800" cy="28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urante l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iosis I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miembros de cada par homólogo de cromosomas se unen primero y luego se separan y se distribuyen en diferentes núcleos. En l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iosis I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las cromátidas hermanas que forman cada cromosoma se separan y se distribuyen en los núcleos de las células hijas. Entre estas dos etapas sucesivas no existe la etapa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3" descr="meiosis"/>
          <p:cNvPicPr/>
          <p:nvPr/>
        </p:nvPicPr>
        <p:blipFill>
          <a:blip r:embed="rId1"/>
          <a:stretch/>
        </p:blipFill>
        <p:spPr>
          <a:xfrm>
            <a:off x="684360" y="2781360"/>
            <a:ext cx="8064360" cy="370836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FAS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cromosomas homólogos se aparean y hay intercambio de material genético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eri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EPTO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cromosomas se hacen vis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da cromosoma contiene 2 cromátidas (pero aún no se distingu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IGO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mparejamientos de cromosomas homólogos por el complejo sinaptoné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 estructura de dos cromosomas con un total de cuatro cromátidas: TÉTRADA o BIVAL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inapsis, puntos donde se entrecru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AQUI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 produce el sobrecruz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tercambio de material genético entre cromosomas homólo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secuencia: recombinación génica. Se observan las tétradas o bival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s cromátidas que han intercambiado fragmentos permanecen unidas por l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quiasm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IPLO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mienza la separación de los cromosomas homólo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ermanecen unidos por puntos denominados QUIAS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IAC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 forma el huso acrom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saparece la membrana nuclear  y nucle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romosomas se condensan 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4" descr="entrecruzamiento-celula-nivel-blogspot-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2" descr="7"/>
          <p:cNvPicPr/>
          <p:nvPr/>
        </p:nvPicPr>
        <p:blipFill>
          <a:blip r:embed="rId1"/>
          <a:stretch/>
        </p:blipFill>
        <p:spPr>
          <a:xfrm>
            <a:off x="179280" y="404640"/>
            <a:ext cx="8543880" cy="6453360"/>
          </a:xfrm>
          <a:prstGeom prst="rect">
            <a:avLst/>
          </a:prstGeom>
          <a:ln w="25560">
            <a:noFill/>
          </a:ln>
        </p:spPr>
      </p:pic>
      <p:sp>
        <p:nvSpPr>
          <p:cNvPr id="764" name="Text Box 3"/>
          <p:cNvSpPr txBox="1"/>
          <p:nvPr/>
        </p:nvSpPr>
        <p:spPr>
          <a:xfrm>
            <a:off x="2411280" y="0"/>
            <a:ext cx="482436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ERIODOS DE LA PROFAS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AFAS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3" descr="Diapositiva13"/>
          <p:cNvPicPr/>
          <p:nvPr/>
        </p:nvPicPr>
        <p:blipFill>
          <a:blip r:embed="rId1"/>
          <a:stretch/>
        </p:blipFill>
        <p:spPr>
          <a:xfrm>
            <a:off x="324000" y="692280"/>
            <a:ext cx="882000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FAS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Diapositiva14"/>
          <p:cNvPicPr/>
          <p:nvPr/>
        </p:nvPicPr>
        <p:blipFill>
          <a:blip r:embed="rId1"/>
          <a:stretch/>
        </p:blipFill>
        <p:spPr>
          <a:xfrm>
            <a:off x="324000" y="907920"/>
            <a:ext cx="856944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LOFAS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3" descr="Diapositiva15"/>
          <p:cNvPicPr/>
          <p:nvPr/>
        </p:nvPicPr>
        <p:blipFill>
          <a:blip r:embed="rId1"/>
          <a:stretch/>
        </p:blipFill>
        <p:spPr>
          <a:xfrm>
            <a:off x="0" y="836640"/>
            <a:ext cx="889308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Diapositiva5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2" descr="Diapositiva17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1 CuadroTexto"/>
          <p:cNvSpPr txBox="1"/>
          <p:nvPr/>
        </p:nvSpPr>
        <p:spPr>
          <a:xfrm>
            <a:off x="826920" y="836640"/>
            <a:ext cx="77770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visión cel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ntenido célula madre se reparte a las células hijas, el ADN se tiene antes que dupli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ivisión en procariota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partición o división simple. Replica el ADN, se une a la membrana, invagina la membrana y segmenta la cél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2" descr="https://sites.google.com/site/256divisioncelular/_/rsrc/1288273977094/division-en-procariotas/fision_binaria%20618x307.JPG"/>
          <p:cNvPicPr/>
          <p:nvPr/>
        </p:nvPicPr>
        <p:blipFill>
          <a:blip r:embed="rId1"/>
          <a:stretch/>
        </p:blipFill>
        <p:spPr>
          <a:xfrm>
            <a:off x="1187280" y="1989000"/>
            <a:ext cx="5886360" cy="2808360"/>
          </a:xfrm>
          <a:prstGeom prst="rect">
            <a:avLst/>
          </a:prstGeom>
          <a:ln w="25560">
            <a:noFill/>
          </a:ln>
        </p:spPr>
      </p:pic>
      <p:sp>
        <p:nvSpPr>
          <p:cNvPr id="718" name="3 CuadroTexto"/>
          <p:cNvSpPr txBox="1"/>
          <p:nvPr/>
        </p:nvSpPr>
        <p:spPr>
          <a:xfrm>
            <a:off x="1116000" y="4797360"/>
            <a:ext cx="720108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ivisión en eucariot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hay d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arenR"/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ivisión celular mitó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curre en células somá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Mitosis o cariocinesis: división del núcleo, finalidad que los cromosomas se reparten equita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Citocinesis: división citopla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eio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curre en células germinales, da lugar a los gametos. Su finalidad posibilitar la reproducción celula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2" descr="7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335640"/>
          </a:xfrm>
          <a:prstGeom prst="rect">
            <a:avLst/>
          </a:prstGeom>
          <a:ln w="25560">
            <a:noFill/>
          </a:ln>
        </p:spPr>
      </p:pic>
      <p:sp>
        <p:nvSpPr>
          <p:cNvPr id="774" name="Text Box 3"/>
          <p:cNvSpPr txBox="1"/>
          <p:nvPr/>
        </p:nvSpPr>
        <p:spPr>
          <a:xfrm>
            <a:off x="1619280" y="0"/>
            <a:ext cx="4465800" cy="396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TAPAS DE LA 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3 CuadroTexto"/>
          <p:cNvSpPr txBox="1"/>
          <p:nvPr/>
        </p:nvSpPr>
        <p:spPr>
          <a:xfrm>
            <a:off x="0" y="0"/>
            <a:ext cx="914400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MPORTANCIA DE LA ME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imprescindible en la reproducción sexual; gametos haploides (por meiosis), unión de los gametos (forman el zigoto), desarrollo del individ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antenimiento del número de cromosomas de la especie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gametos la mitad de cromosomas, al unirse se restaura el número de cromosomas de la espe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umenta la  variabilidad genética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bido al entrecruzamiento y recombinación genética. Segregación y distribución al azar de los cromosomas en los gametos. Unión al azar de un gameto masculino y femen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la reproducción asexual, la mitosis, los descendientes iguales, su fuente de variación son las mu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la reproducción sexual, la variabilidad genética son las mutaciones, entrecruzamiento y recombinación genética y la segregación al azar. Por eso el significado biológico de la reproducción sexual es aumentar la  variabilidad genética que es la base de la ev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25560">
            <a:noFill/>
          </a:ln>
        </p:spPr>
      </p:pic>
      <p:sp>
        <p:nvSpPr>
          <p:cNvPr id="777" name="Text Box 3"/>
          <p:cNvSpPr txBox="1"/>
          <p:nvPr/>
        </p:nvSpPr>
        <p:spPr>
          <a:xfrm>
            <a:off x="2590920" y="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ITOSIS Y MEI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"/>
          <p:cNvSpPr txBox="1"/>
          <p:nvPr/>
        </p:nvSpPr>
        <p:spPr>
          <a:xfrm>
            <a:off x="3451320" y="1865160"/>
            <a:ext cx="10461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taf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 txBox="1"/>
          <p:nvPr/>
        </p:nvSpPr>
        <p:spPr>
          <a:xfrm>
            <a:off x="4251240" y="3440160"/>
            <a:ext cx="975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af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6"/>
          <p:cNvSpPr txBox="1"/>
          <p:nvPr/>
        </p:nvSpPr>
        <p:spPr>
          <a:xfrm>
            <a:off x="5483160" y="3859200"/>
            <a:ext cx="10965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taf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7"/>
          <p:cNvSpPr txBox="1"/>
          <p:nvPr/>
        </p:nvSpPr>
        <p:spPr>
          <a:xfrm>
            <a:off x="6473880" y="4164120"/>
            <a:ext cx="10263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af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8"/>
          <p:cNvSpPr txBox="1"/>
          <p:nvPr/>
        </p:nvSpPr>
        <p:spPr>
          <a:xfrm>
            <a:off x="2295360" y="3652920"/>
            <a:ext cx="169092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Recombin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romosomas homólog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9"/>
          <p:cNvSpPr txBox="1"/>
          <p:nvPr/>
        </p:nvSpPr>
        <p:spPr>
          <a:xfrm>
            <a:off x="2473200" y="1814400"/>
            <a:ext cx="9381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f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1 CuadroTexto"/>
          <p:cNvSpPr txBox="1"/>
          <p:nvPr/>
        </p:nvSpPr>
        <p:spPr>
          <a:xfrm>
            <a:off x="539640" y="2133000"/>
            <a:ext cx="8064720" cy="18774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5. FUNCIÓN DE NUTRI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1 CuadroTexto"/>
          <p:cNvSpPr txBox="1"/>
          <p:nvPr/>
        </p:nvSpPr>
        <p:spPr>
          <a:xfrm>
            <a:off x="323640" y="548640"/>
            <a:ext cx="83530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5.1 CONCEPTO DE NUTRICIÓN.NUTRICIÓN AUTÓTROFA Y HETERÓTRO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cepto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ceso por el que la célula toma materia y energía del exterior y las transforma para renovar estructuras celulares y obtener energía para realizar los diferentes trabajos cel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ipos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gún la fuente de carbono, hay dos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eterótrofa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ecesitan materia orgánica, por lo que se nutren de moléculas inorgánicas y orgánicas (glúcidos, lípidos y proteínas). Se da en animales, hongos y algunas bacte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utótrofa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nutren de materia inorgánica sin contenido energético (CO2, O2, agua y sales), porque sintetizan su propia materia orgánica a partir de la inorgánica. Según la fuente de energía hay dos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lphaLcParenR"/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tosintéticas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btienen la energía de la luz solar, transformándola en energía química(ATP). Son los  fotosintéticos o fototrofos. Se da en vegetales y bacterias fotosinté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lphaLcParenR"/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Quimiosintéticas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btienen energía de las reacciones de oxidorreducción. Son los quimiosintéticos o quimiotrofos. Se da en bacte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1 CuadroTexto"/>
          <p:cNvSpPr txBox="1"/>
          <p:nvPr/>
        </p:nvSpPr>
        <p:spPr>
          <a:xfrm>
            <a:off x="611640" y="476640"/>
            <a:ext cx="806472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5.2 IN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cesos de incorporación de sustancias a la célula a través de la membrana 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5.2.1 INTERCAMBIO DE MOLÉCULAS PEQUEÑAS. PERMEABILIDAD CELULAR: DIFUSIÓN Y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3 Imagen" descr=""/>
          <p:cNvPicPr/>
          <p:nvPr/>
        </p:nvPicPr>
        <p:blipFill>
          <a:blip r:embed="rId1"/>
          <a:stretch/>
        </p:blipFill>
        <p:spPr>
          <a:xfrm>
            <a:off x="756000" y="2273760"/>
            <a:ext cx="7918560" cy="410868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3"/>
          <p:cNvSpPr txBox="1"/>
          <p:nvPr/>
        </p:nvSpPr>
        <p:spPr>
          <a:xfrm>
            <a:off x="0" y="115920"/>
            <a:ext cx="9036000" cy="37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. Transporte pasiv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n gasto de energía y a favor de concent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Hay dos tip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- Difusión simple: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aso de moléculas a través de la membrana sin intervención de proteínas. Ejemplos: O2, CO2, urea y etanol. En el caso del agua es la ósmo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- Difusión facilitada: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a membrana es impermeable a sustancias hidrosolubles (iones, glucosa, aas,…), su transporte es facilitado por proteínas de transporte, que forman canales. Tip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) Proteínas canal: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orman canales acuosos siempre abiertos. Pasan los iones positivos para mantener el potencial de membrana (negativo en el interior respecto al exteri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b) Proteínas transportadoras específicas o permeasas: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 unen a la molécula que es transportada. Pasan los nucleótidos, aas, glucosa, monosacáridos…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enen estas proteínas dos conformaciones: pong (centros de unión libres hacia el exterior) y ping (hacia el interi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http://1.bp.blogspot.com/_TYKXEPKoytc/S_V3cm5r7uI/AAAAAAAADyM/89LidfQwXU8/s1600/F2.jpg"/>
          <p:cNvPicPr/>
          <p:nvPr/>
        </p:nvPicPr>
        <p:blipFill>
          <a:blip r:embed="rId1"/>
          <a:stretch/>
        </p:blipFill>
        <p:spPr>
          <a:xfrm>
            <a:off x="539640" y="3933000"/>
            <a:ext cx="8137080" cy="2925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" descr="6"/>
          <p:cNvPicPr/>
          <p:nvPr/>
        </p:nvPicPr>
        <p:blipFill>
          <a:blip r:embed="rId1"/>
          <a:stretch/>
        </p:blipFill>
        <p:spPr>
          <a:xfrm>
            <a:off x="0" y="1917000"/>
            <a:ext cx="9144000" cy="4941000"/>
          </a:xfrm>
          <a:prstGeom prst="rect">
            <a:avLst/>
          </a:prstGeom>
          <a:ln w="25560">
            <a:noFill/>
          </a:ln>
        </p:spPr>
      </p:pic>
      <p:sp>
        <p:nvSpPr>
          <p:cNvPr id="791" name="Text Box 3"/>
          <p:cNvSpPr txBox="1"/>
          <p:nvPr/>
        </p:nvSpPr>
        <p:spPr>
          <a:xfrm>
            <a:off x="324000" y="0"/>
            <a:ext cx="8280720" cy="17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Transporte activo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gasto energético (ATP) y en contra de gradiente electroquí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 realizan proteínas (bombas) cuyo cambio de conformación necesita ATP. Un ejemplo es la bomba de Na-K, por cada ATP bombea 3 Na+ al exterior y 2 K+ al interior, así se crea una diferencia de potencial eléctrico en la membrana, el interior – con respecto al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 DE TRANSP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2" descr="http://www.asturnatura.com/articulos/envoltura-celular/membrana-plasmatica-transporte.jpg"/>
          <p:cNvPicPr/>
          <p:nvPr/>
        </p:nvPicPr>
        <p:blipFill>
          <a:blip r:embed="rId1"/>
          <a:stretch/>
        </p:blipFill>
        <p:spPr>
          <a:xfrm>
            <a:off x="827640" y="1628640"/>
            <a:ext cx="7416720" cy="446436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6"/>
          <p:cNvPicPr/>
          <p:nvPr/>
        </p:nvPicPr>
        <p:blipFill>
          <a:blip r:embed="rId1"/>
          <a:stretch/>
        </p:blipFill>
        <p:spPr>
          <a:xfrm>
            <a:off x="5076000" y="1124640"/>
            <a:ext cx="4068000" cy="5544360"/>
          </a:xfrm>
          <a:prstGeom prst="rect">
            <a:avLst/>
          </a:prstGeom>
          <a:ln w="25560">
            <a:noFill/>
          </a:ln>
        </p:spPr>
      </p:pic>
      <p:sp>
        <p:nvSpPr>
          <p:cNvPr id="795" name="Text Box 3"/>
          <p:cNvSpPr txBox="1"/>
          <p:nvPr/>
        </p:nvSpPr>
        <p:spPr>
          <a:xfrm>
            <a:off x="0" y="0"/>
            <a:ext cx="5004000" cy="67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5.2.2 INTERCAMBIO DE MOLÉCULAS GRANDES. ENDOCITOSIS Y EXOC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StarSymbol"/>
              <a:buAutoNum type="alphaUcPeriod"/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DOC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 por el cuál la célula incorpora moléculas de gran tamaño y partículas sólidas. Consiste en que una porción de la membrana plasmática envuelve al material que queda encerrado en una vesícula o vacuola endocítica, que puede ser de d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 Fagocitosis: ingestión de partículas sólidas de gran tamaño (bacterias, restos celulares), la vacuola se llama fagosoma, se une al lisosoma primario. En organismos pluricelulares, lo hacen los macrófagos y en protozoos su forma habitual de alim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Pinocitosis: ingestión de líquido extracelular y pequeñas partículas por invaginaciones de la membrana. La vacuola se llama vacuola pinocítica, se une al lisosoma prim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" descr="7"/>
          <p:cNvPicPr/>
          <p:nvPr/>
        </p:nvPicPr>
        <p:blipFill>
          <a:blip r:embed="rId1"/>
          <a:stretch/>
        </p:blipFill>
        <p:spPr>
          <a:xfrm>
            <a:off x="4427640" y="836640"/>
            <a:ext cx="4716360" cy="4968720"/>
          </a:xfrm>
          <a:prstGeom prst="rect">
            <a:avLst/>
          </a:prstGeom>
          <a:ln w="25560">
            <a:noFill/>
          </a:ln>
        </p:spPr>
      </p:pic>
      <p:sp>
        <p:nvSpPr>
          <p:cNvPr id="720" name="Text Box 3"/>
          <p:cNvSpPr txBox="1"/>
          <p:nvPr/>
        </p:nvSpPr>
        <p:spPr>
          <a:xfrm>
            <a:off x="1835280" y="0"/>
            <a:ext cx="5977080" cy="519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4.1 EL CICLO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3 CuadroTexto"/>
          <p:cNvSpPr txBox="1"/>
          <p:nvPr/>
        </p:nvSpPr>
        <p:spPr>
          <a:xfrm>
            <a:off x="324000" y="692280"/>
            <a:ext cx="410364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a secuencia regular y repetitiva de crecimiento y división por la que pasan las células eucariotas. Peri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fas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G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rece la célula en tamaño, aumenta el número de biomoléculas y orgán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uplicación del ADN, síntesis de proteínas y se inicia la duplicación centrio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finaliza duplicación centriolos, inicia condensación cromatina, sintetizan proteínas esenciales para la di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  División cel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Mito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paran los juegos cromosóm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Citocine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divide el citopla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1 CuadroTexto"/>
          <p:cNvSpPr txBox="1"/>
          <p:nvPr/>
        </p:nvSpPr>
        <p:spPr>
          <a:xfrm>
            <a:off x="683640" y="836640"/>
            <a:ext cx="8064720" cy="156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. EXOC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s por los cuales la célula elimina al exterior moléculas de gran tamaño. Se engloban en vesículas que van a la superficie celular, se unen a la membrana plasmática y el contenido de la vesícula va al espacio extracelular. Se eliminan residuos de la digestión intracelular, restos de orgánulos degradado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http://4.bp.blogspot.com/-MbmtfXUmkQg/VU5nzaYnlVI/AAAAAAAApuw/j1Z3S7yMeV8/s640/Exocitosis.jpg"/>
          <p:cNvPicPr/>
          <p:nvPr/>
        </p:nvPicPr>
        <p:blipFill>
          <a:blip r:embed="rId1"/>
          <a:stretch/>
        </p:blipFill>
        <p:spPr>
          <a:xfrm>
            <a:off x="683640" y="2493000"/>
            <a:ext cx="7488720" cy="4365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1 CuadroTexto"/>
          <p:cNvSpPr txBox="1"/>
          <p:nvPr/>
        </p:nvSpPr>
        <p:spPr>
          <a:xfrm>
            <a:off x="179640" y="188640"/>
            <a:ext cx="8785080" cy="68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5.3 DIGESTIÓN CELULAR. ORGÁNULOS IMPL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 llevada acabo por los lisosomas (vesículas membranosas con enzimas hidrolíticas capaces de digerir macromoléculas), son los basureros del mundo celular,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Lisosomas primarios: son los recién fabricados en el Aparato de Golgi, sólo tienen enz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isosomas secundarios: tienen enzimas y sustancias en vías de di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ipos de digestión cel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Extracelular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or exocitosis. Se liberan enzimas al medio y la digestión ocurre fuera de la cél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ntracelular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)  Material exógeno: nutrición y defensa frente a microorganismos. Al proceso se llama heterofagia: entra a la célula partículas sólidas por endocitosis. Fusión con un lisosoma primario (vacuola heterofágica). Digestión; los productos los aprovecha la célula, el resto los expulsa o forman un cuerpo resid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) Material endógeno: recambio de componentes celulares y nutrición en ayunas. Al proceso se llama autofagia: los orgánulos viejos se rodean de membrana del REL. Se fusiona con un lisosoma primario, vacuola autofágica. Digest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5.4 EXOCITOSIS Y SECRECIÓN CELULAR (Ya vis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tretch/>
        </p:blipFill>
        <p:spPr>
          <a:xfrm>
            <a:off x="395640" y="476640"/>
            <a:ext cx="8425080" cy="597672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 comenzar la división, la cromatina se condensa, hasta alcanzar su máximo desarrollo en metafase. En esta fase, el cromosoma adquiere su máximo grado de empaquetamiento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Partes de un cromoso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00320" cy="21585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ENTRÓM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vide al cromosoma en braz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tiene heterocroma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inetocor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 punto inserción microtúb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ROMÁTIDAS HERMA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visión longitud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Genéticamente ig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ermanecen unidas por el centróm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ELÓMER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asco o parte final de los cromoso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otege información útil durante la duplicación, le da estabilidad e integr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ATÉLI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dond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Unido al extremo del cromoso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STRICCIONES SECUNDARI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delgazamientos en un braz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Zonas N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 está cerca del telómero, origina satél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2-Estructura-cromosoma"/>
          <p:cNvPicPr/>
          <p:nvPr/>
        </p:nvPicPr>
        <p:blipFill>
          <a:blip r:embed="rId1"/>
          <a:stretch/>
        </p:blipFill>
        <p:spPr>
          <a:xfrm>
            <a:off x="1823040" y="2350080"/>
            <a:ext cx="1300320" cy="65844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7"/>
          <p:cNvSpPr/>
          <p:nvPr/>
        </p:nvSpPr>
        <p:spPr>
          <a:xfrm>
            <a:off x="395280" y="0"/>
            <a:ext cx="8424720" cy="39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. ESTRUCTURA Y PARTES DE UN  CROMOSOMA METAFÁ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8" descr="Diapositiva11"/>
          <p:cNvPicPr/>
          <p:nvPr/>
        </p:nvPicPr>
        <p:blipFill>
          <a:blip r:embed="rId2"/>
          <a:stretch/>
        </p:blipFill>
        <p:spPr>
          <a:xfrm>
            <a:off x="3188520" y="2192040"/>
            <a:ext cx="1300320" cy="97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B. NÚMERO DE CROMOS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435880" cy="49975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número de cromosomas de una nueva especie es constante, las células de un individuo pueden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ploides (2n). Dos juegos de cromosomas (en parejas de homólogos, mismo tamaño, forma y genes). En células somáticas. Ser humano 2n = 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ploides. Un solo juego de cromosomas.  (n) Diferentes entre sí, no hay homólogos. Gametos. Ser humano n=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POS DE CROMOSOM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Según la posición del centróme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7" descr="CROMOSOMAS TIPOS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2061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. CARIOTIP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rdenamiento de los cromosomas de una célula en metafase según su tamaño, número, posición del centrómero, longitud de brazos…Es característico de cada especie. En organismos superiores hay dos tipos: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UTOSOMAS: Comunes a los dos sexo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ROMOSOMAS SEXUALES: Determinan el sexo. Especie humana el X e Y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 Cariotipo de mujeres: 44 autosomas + XX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 Cariotipo de hombres: 44 autosomas + X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ideochrm"/>
          <p:cNvPicPr/>
          <p:nvPr/>
        </p:nvPicPr>
        <p:blipFill>
          <a:blip r:embed="rId1"/>
          <a:stretch/>
        </p:blipFill>
        <p:spPr>
          <a:xfrm>
            <a:off x="0" y="2277000"/>
            <a:ext cx="9144000" cy="4581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  <Words>2359</Words>
  <Paragraphs>18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8:19:21Z</dcterms:created>
  <dc:creator>arantxa</dc:creator>
  <dc:description/>
  <dc:language>en-US</dc:language>
  <cp:lastModifiedBy>Centor</cp:lastModifiedBy>
  <dcterms:modified xsi:type="dcterms:W3CDTF">2016-01-03T18:10:48Z</dcterms:modified>
  <cp:revision>63</cp:revision>
  <dc:subject/>
  <dc:title>Diapositiva 1</dc:title>
</cp:coreProperties>
</file>